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2F16-F34D-47BD-9792-E54D26ECD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1FED-6839-435C-B259-2DA09FD87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3B4F7-6B67-458F-AEE2-4172DAE45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633C-B04F-48C2-AADD-5D6732A670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60B0-90E6-471F-A338-1616D3CDDA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9BF23-0CC9-48C1-9B20-EE617D42C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A288-5191-4F94-97E4-62E917645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498C-D885-46B4-974D-8B8155AC0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B86DB-1211-4E22-82E7-B3C3ED104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46BC-B2BC-45B1-8188-88E4E0DBA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DE07-1FCF-462F-84A9-1E471A884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B3CD-DFD7-4A1B-917A-888D04592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.2-</a:t>
            </a:r>
            <a:fld id="{E306F6CB-2371-4B47-8AEA-B2D87BA7631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2560" y="1622520"/>
            <a:ext cx="782640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146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already learned familiar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ommands and formal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ted/uste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ommands. You will now lear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otros/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s, which are used to give ord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suggestions that include yourself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6560" y="1538280"/>
            <a:ext cx="1676520" cy="56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3628-BDD5-4068-B6B6-1EF00C7B4E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otros/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s correspond to the Englis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ffirmative and negat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otros/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s are generally formed by using the first-person plural form of the present subjun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4489560"/>
            <a:ext cx="7315200" cy="82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9919-189F-4559-BFAC-6342964D99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07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ffirmati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’s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command may also be expressed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mo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. Remember, however,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mo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can also me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 are going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Context and tone of voice determine which meaning is being expres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4710240"/>
            <a:ext cx="7315200" cy="68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77B7-4861-4FEF-AAD1-635AF98900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r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’s 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present indicative form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m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used, not the subjunctive. For the negative command, however, the subjunctive is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3641760"/>
            <a:ext cx="7315200" cy="458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0120" y="4165560"/>
            <a:ext cx="790884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5006-8A74-453C-8020-D43FF95031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1400" y="1658880"/>
            <a:ext cx="777240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¡Atenció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tached to an affirmat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otros/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, the fin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ropped from the verb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témonos all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moselo a el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démoselo a el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otros/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form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go a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ámo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ts negativ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nos vayam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85A2F-F245-4A2B-84A8-55BE9F227E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pronouns are always attach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ffirmat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otros/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s. A written accent is added to maintain the original 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3730680"/>
            <a:ext cx="7315200" cy="77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B46A-6864-4AD1-8540-25B012F3F7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pronouns are placed in front of negat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otros/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3052800"/>
            <a:ext cx="7315200" cy="46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DC980-8B0E-450A-BEA8-345F4E10E8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39560" y="1514520"/>
            <a:ext cx="243864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428760" y="2179800"/>
          <a:ext cx="8286480" cy="3249360"/>
        </p:xfrm>
        <a:graphic>
          <a:graphicData uri="http://schemas.openxmlformats.org/drawingml/2006/table">
            <a:tbl>
              <a:tblPr/>
              <a:tblGrid>
                <a:gridCol w="4143240"/>
                <a:gridCol w="4143240"/>
              </a:tblGrid>
              <a:tr h="1097640">
                <a:tc gridSpan="2"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 los mandatos afirmativos y negativos de la primera persona del plural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/a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de estos verb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260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studiar 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enar 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leer 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decidir 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decir 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cerrar 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levantarse 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irse 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108160" y="3095640"/>
            <a:ext cx="4756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ff"/>
                </a:solidFill>
                <a:latin typeface="Comic Sans MS"/>
              </a:rPr>
              <a:t>estudiemos, </a:t>
            </a:r>
            <a:br>
              <a:rPr sz="2100"/>
            </a:br>
            <a:r>
              <a:rPr b="1" lang="en-US" sz="2100" spc="-1" strike="noStrike">
                <a:solidFill>
                  <a:srgbClr val="0080ff"/>
                </a:solidFill>
                <a:latin typeface="Comic Sans MS"/>
              </a:rPr>
              <a:t>no estudiem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E1253-E6A4-4CDA-BD7F-12B50A055E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awagner</cp:lastModifiedBy>
  <dcterms:modified xsi:type="dcterms:W3CDTF">2007-03-29T17:33:16Z</dcterms:modified>
  <cp:revision>78</cp:revision>
  <dc:subject/>
  <dc:title>PowerPoint Presentation</dc:title>
</cp:coreProperties>
</file>